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B08-62A7-4E3F-ADAA-CCA14335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CD14-46C4-4DEA-9A83-EF22AD8D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11E-E529-46F7-98FC-06B84287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03C-F0A0-495B-960F-202D1CDA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043-840E-471E-8B24-8421DD9A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AA7-5CF9-4744-A9DF-913172A1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9E2-5A7F-4407-9FA4-DB5216E2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3D91-D6F6-41EF-AEE3-4E963BF2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CEB-5335-4ABB-BEAB-7E9F4D5E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F6A-C529-4AEB-84D6-FC4F1BB1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0016-B047-4914-9683-BBFCE35B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328-B74C-43B7-A796-5907FF29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EDE1-7ABA-4103-BCFE-AD8790272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inniethepoohbear.net/showpicture.php?picname=/albumgroup1/im/group_jpg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oism (pronounced Dowism) is a common religion in Asia.  Like ___________, there are not gods.  Instead, they follow the teachings of a man named 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aracter from the 100 Acre Woods is a symbol of Taoist philosop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that each has a personality or character traits that demonstrates one of the teachings of Tao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oism talks about keeping things natural, uncomplicated, and simple... Just like our favorite b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oism says, “Don’t think or plan or do, just BE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While Eeyore frets ..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and Piglet hesita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and Rabbit calculat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and Owl pontifica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Pooh just is.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Pooh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over the descriptions of each Pooh character.  Think about which personality traits you have in common with each charact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2133720"/>
            <a:ext cx="61722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h is kind of clueless, maybe a bit of an airh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h is almost always hap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h wanders through life happ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as no goals, but no disappoin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h is looking for a simple plea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ke, balloons and a full belly are the key to happ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brumdisney23_gif"/>
          <p:cNvPicPr/>
          <p:nvPr/>
        </p:nvPicPr>
        <p:blipFill>
          <a:blip r:embed="rId1"/>
          <a:stretch/>
        </p:blipFill>
        <p:spPr>
          <a:xfrm>
            <a:off x="3733920" y="304920"/>
            <a:ext cx="13395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17524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Pig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is a loyal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is never the center of att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thinks of other people’s feelings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needs a lot of pats on the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wants to please and get appro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prefers one good friend to a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wor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nassedisney8_gif"/>
          <p:cNvPicPr/>
          <p:nvPr/>
        </p:nvPicPr>
        <p:blipFill>
          <a:blip r:embed="rId1"/>
          <a:stretch/>
        </p:blipFill>
        <p:spPr>
          <a:xfrm>
            <a:off x="4114800" y="304920"/>
            <a:ext cx="1100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1752120"/>
            <a:ext cx="472428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Tig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ger is energetic, physical, and f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ger is impulsive (doesn’t think before he acts), and is likely to get into trou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ger is loud and never sits 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ger is emotional and often flies into a rage or gets upset, but gets over it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ger likes noise and music and sports… the louder and more physical, the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igger"/>
          <p:cNvPicPr/>
          <p:nvPr/>
        </p:nvPicPr>
        <p:blipFill>
          <a:blip r:embed="rId1"/>
          <a:stretch/>
        </p:blipFill>
        <p:spPr>
          <a:xfrm>
            <a:off x="4114800" y="152280"/>
            <a:ext cx="9986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09680" y="198108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Eey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yore is slightly cynical, expecting bad things will happen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yore focuses on problems and compl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yore loses things a lot and is forget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yore is pessimistic, and worries a 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yore is often shy, tired, or s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pite of this, Eeyore is lovable and loves his friends and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Image72_gif"/>
          <p:cNvPicPr/>
          <p:nvPr/>
        </p:nvPicPr>
        <p:blipFill>
          <a:blip r:embed="rId1"/>
          <a:stretch/>
        </p:blipFill>
        <p:spPr>
          <a:xfrm>
            <a:off x="3809880" y="609480"/>
            <a:ext cx="144792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752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Rabb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 likes to be in charge, is detail-oriented, clever, and good at pla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 can be counted on in an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 is very organized and neat, and likes everything in it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 is uncomfortable around mess and chaos, and likes to follow a sched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sprettdisney4_gif"/>
          <p:cNvPicPr/>
          <p:nvPr/>
        </p:nvPicPr>
        <p:blipFill>
          <a:blip r:embed="rId1"/>
          <a:stretch/>
        </p:blipFill>
        <p:spPr>
          <a:xfrm>
            <a:off x="4019400" y="228600"/>
            <a:ext cx="9050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1447560"/>
            <a:ext cx="4876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O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is academic (scholarly and well-educat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is a problem solver, is thoughtful, and uses common s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reads a lot, and knows a lot about a 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loves to show off how smart h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is very wise, and would be a good scientist or profes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ugladisney3_gif"/>
          <p:cNvPicPr/>
          <p:nvPr/>
        </p:nvPicPr>
        <p:blipFill>
          <a:blip r:embed="rId1"/>
          <a:stretch/>
        </p:blipFill>
        <p:spPr>
          <a:xfrm>
            <a:off x="3809880" y="304920"/>
            <a:ext cx="920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676160"/>
            <a:ext cx="4800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Kan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ga is sweet and nurt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ga loves small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ga makes sure everyone is safe and f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ga is gentle and loving and comfor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ga likes a cozy home and quiet moments, and makes a great pa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kengudisney2_gif"/>
          <p:cNvPicPr/>
          <p:nvPr/>
        </p:nvPicPr>
        <p:blipFill>
          <a:blip r:embed="rId1"/>
          <a:stretch/>
        </p:blipFill>
        <p:spPr>
          <a:xfrm>
            <a:off x="3962520" y="228600"/>
            <a:ext cx="101268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75248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Christopher Rob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opher Robin is imaginative.  He is very clever and artistic, and has good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uld make a good actor or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oves a good story.  He loves to be surrounded by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a daydreamer and loves to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Image12_gif"/>
          <p:cNvPicPr/>
          <p:nvPr/>
        </p:nvPicPr>
        <p:blipFill>
          <a:blip r:embed="rId1"/>
          <a:stretch/>
        </p:blipFill>
        <p:spPr>
          <a:xfrm>
            <a:off x="4191120" y="0"/>
            <a:ext cx="5587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Tao (pronounced Dow) mea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” (to happine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Want to Kno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going to be explaining to me who you are… in terms of Tao and Poo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ight be one character or a combination of tw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sheet of white paper, explain who you are in terms of Tao and Pooh. Explain yourself thoroughly! Illust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ree secrets to being happ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_______________ (care for ot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_______________ (being down-to-ear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_______________ (enjoy everything in small amounts, but don’t go crazy!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O S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__________ is finding balance… in yourself and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Finding joy and laughter in __________ _________ is the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Let go of __________ and worry and forget about things that make you s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is sounds familiar, it’s because LAO’s ideas are the same as another great philosopher you know:  ______________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eople argue that the Pooh stories are actually stories to help people understand __________ and teach _____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some quotes from Pooh that match up perfectly with the teachings of Lao, who probably lived in China about 6 years before the birth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lao"/>
          <p:cNvPicPr/>
          <p:nvPr/>
        </p:nvPicPr>
        <p:blipFill>
          <a:blip r:embed="rId2"/>
          <a:stretch/>
        </p:blipFill>
        <p:spPr>
          <a:xfrm>
            <a:off x="5715000" y="4038480"/>
            <a:ext cx="2971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______________________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Rabbit's clever," said Pooh thoughtfully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Yes," said Piglet. "Rabbit's clever."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And he has Brain."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Yes," said Piglet, "Rabbit has Brain."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was a long silenc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I suppose," said Pooh, "that that's why he never understands anything."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j0236214"/>
          <p:cNvPicPr/>
          <p:nvPr/>
        </p:nvPicPr>
        <p:blipFill>
          <a:blip r:embed="rId1"/>
          <a:stretch/>
        </p:blipFill>
        <p:spPr>
          <a:xfrm>
            <a:off x="7010280" y="1274760"/>
            <a:ext cx="1524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________________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Lot's of people talk to animals," said Pooh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Maybe, but..."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Not very man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ough," he said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That's the problem," he add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group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1752480"/>
            <a:ext cx="15620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 and Tigger were walking along the forest one morning, and Tigger was talking about all the things that Tiggers can do..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I can swim," said Roo. "I fell into the river, and I swimmed. Can Tiggers swim?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Of course they can. Tiggers can do everything.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Can they climb trees better than Pooh?" asked Roo, stopping under the tallest Pine Tree, and looking up at it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Climbing trees is what they do best," said Tigger. "Much better than Poohs.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 next thing they knew, they were stuck in the tallest pine tre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3:08:04Z</dcterms:created>
  <dc:creator>Daniel Boone Area School District</dc:creator>
  <dc:description/>
  <dc:language>en-US</dc:language>
  <cp:lastModifiedBy>Tech Support</cp:lastModifiedBy>
  <dcterms:modified xsi:type="dcterms:W3CDTF">2013-11-05T14:06:06Z</dcterms:modified>
  <cp:revision>12</cp:revision>
  <dc:subject/>
  <dc:title>The Tao of Poo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